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2716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12960" y="1455840"/>
            <a:ext cx="3838680" cy="42289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95120" y="176040"/>
            <a:ext cx="3883320" cy="798840"/>
            <a:chOff x="195120" y="176040"/>
            <a:chExt cx="3883320" cy="798840"/>
          </a:xfrm>
        </p:grpSpPr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195120" y="176040"/>
              <a:ext cx="795600" cy="7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2236680" y="177840"/>
              <a:ext cx="93204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6"/>
            <a:stretch/>
          </p:blipFill>
          <p:spPr>
            <a:xfrm>
              <a:off x="1062000" y="177840"/>
              <a:ext cx="11016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7"/>
            <a:stretch/>
          </p:blipFill>
          <p:spPr>
            <a:xfrm>
              <a:off x="3270240" y="177840"/>
              <a:ext cx="8082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"/>
          <p:cNvSpPr/>
          <p:nvPr/>
        </p:nvSpPr>
        <p:spPr>
          <a:xfrm>
            <a:off x="5181480" y="316080"/>
            <a:ext cx="372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retari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Recursos Híd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6703920" y="360360"/>
          <a:ext cx="222408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03920" y="360360"/>
                    <a:ext cx="2224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6920" y="2212920"/>
            <a:ext cx="866448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jeto DELT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riação e Implementação de Mecanismos para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sseminar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periências  e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ções Aprendidas em Gestão Integrada de Recursos Hídricos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ansfronteiriços nas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ericas e no Ca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(2003-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14a. Reunião Ordin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rasília, 28 de novemb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2760" y="2279520"/>
            <a:ext cx="866124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claração de Lima sobre Gerenciamento de RH Transfronteir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ta de Estratégia Comum entre os Países da América Latina e Caribe para a Gestão de Á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ub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2760" y="1308240"/>
            <a:ext cx="8329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ult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760" y="2286000"/>
            <a:ext cx="82404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0" t="5887" r="0" b="0"/>
          <a:stretch/>
        </p:blipFill>
        <p:spPr>
          <a:xfrm>
            <a:off x="1515960" y="1600200"/>
            <a:ext cx="611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154240"/>
            <a:ext cx="833148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iação da Rede Inter-Americana de Recursos Hídricos  (RIRH), Miami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no de Ação para o Desenvolvimento Sustentável, Reuníão de Cúpula na Bolívia, Dezembro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álogos Inter-Americanos sobre Gestão de Águas, Miami, 1994; Buenos Aires, 1996; Panamá, 1998;      Foz do Iguaçu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isão Regional sobre a Águ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órum Mundial da Água, Japão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sseminação de Informação através do P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F IW:LEARN (Águas Transfronteiriç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81160"/>
            <a:ext cx="9144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tecedentes do Projeto e Ligações com Prioridades, Planos de Ação e Programas Regionais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3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jetos GEF em Águas Transfronteiri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ermejo (Argentina e Bolív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an Juan (Costa Rica e Nicarág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rente Marítima do Prata (Argentina e Urugu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ntanal/ Alto Paraguai (Bras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ão Francisco (Bras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grama-Marco Bacia do Prata (AR,BO,BR,PY,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mazonia (BO,BR,CO,EC,VE,SU,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2101680"/>
            <a:ext cx="89280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 Apoiar o aperfeiçoamento de políticas públicas para a Gestão Integrada de Recursos Hídricos nos países membros da OEA, com base na troca de experiências e informação sobre lições aprendidas em projeto GEF e outro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2760" y="1308240"/>
            <a:ext cx="8329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bjetivos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1200" y="2101680"/>
            <a:ext cx="890280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. Apoiar a elaboração de uma propost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ratégia Inter-Americana em Recursos Hídric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m preparação para o IV  Fórum Mundial da Água,  a realizar-se no México em março de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200" y="1308240"/>
            <a:ext cx="85708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bjetivos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7440" y="1860480"/>
            <a:ext cx="854856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mover a capacitação hemi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mpliar a troca de conhecimento, experiências e práticas bem sucedidas na gestão de recursos hídricos, entre instituições e organismos de bacias hidrográficas na A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forçar a colaboração entre países ribeirinhos para a implementação da gestão integrada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acilitar o cumprimento de compromissos intern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forçar a Rede Inter-America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forçar a participação da sociedade no gerenciamento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760" y="1104840"/>
            <a:ext cx="83293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pectativ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2760" y="2305080"/>
            <a:ext cx="828180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álogos Regionais, workshops 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nvolvimento de instituições e especialistas dos países envolvidos n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órums Virt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ecanismos de comunicação e informação de fácil acesso e descentr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2760" y="1308240"/>
            <a:ext cx="8329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trum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2760" y="2286000"/>
            <a:ext cx="82404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2760" y="2305080"/>
            <a:ext cx="8281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 Diálogos Regionais: Brasília, Montevidéu, Castries (St. Lucia) e L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6 workshops: Brasília, Buenos Aires, San José (Costa Rica), Trinidad, El Paso, San Salv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 Diálogo Interamericano de Gerenciamento de Águas, Montego Bay, Jamaica, outubro, 20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1308240"/>
            <a:ext cx="8329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ult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2286000"/>
            <a:ext cx="82404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2760" y="2101680"/>
            <a:ext cx="866124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poio à preparação do Projeto GEF-Amazon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poio ao desenvolvimento do Projeto ISARM-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órums Virtuais no Cone Sul e Vertentes Pacífic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formulação do sítio w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eb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central e implantação de 6 sítios descentralizados - Nós Regionais - da RI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ta de Plano Estratégico e novo Estatuto da RI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ta de criação de Biblioteca Virtual de Boas Pr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ta de criação de Prêmio RIRH de Boas Pr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2760" y="1308240"/>
            <a:ext cx="8329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ult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760" y="2286000"/>
            <a:ext cx="82404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5:21:45Z</dcterms:created>
  <dc:creator>Pablo Gonzalez</dc:creator>
  <dc:description/>
  <dc:language>en-US</dc:language>
  <cp:lastModifiedBy>Rogerio Barion</cp:lastModifiedBy>
  <dcterms:modified xsi:type="dcterms:W3CDTF">2005-11-28T15:29:06Z</dcterms:modified>
  <cp:revision>98</cp:revision>
  <dc:subject/>
  <dc:title>PowerPoint Presentation</dc:title>
</cp:coreProperties>
</file>